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A57-C449-4DE3-BA1E-0F2B4A62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F45-FAF3-486E-B122-BBD9B87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089-9909-4165-AA84-751D2BD9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D64-CC47-4620-A40F-31E3CC42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7D6-AF9E-4008-9AAC-E825286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956-C14E-4401-8E42-52F4355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7EF-E7BE-4A5A-9476-84625941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169-8AC0-4D00-9813-A2A8250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0A1-C628-4FA7-8C8B-0DD7F59E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CFF-ADA5-45AE-B475-6600143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E1D-CB9B-49A0-8E1F-F78D122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94A-CCC2-4BFC-A388-8941087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2E7-3205-449A-B53E-72683CD8D1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0080"/>
            <a:ext cx="9144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لإخوةِ السّلامُ والمحبَّةُ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إيمان مِنَ اللهِ الآب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ربِ يسوع المسيحْ.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فليَكُن إلهُ السّلام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معكم أجمعين. آمين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29:03Z</dcterms:created>
  <dc:creator>Charbel Azar</dc:creator>
  <dc:description/>
  <dc:language>en-US</dc:language>
  <cp:lastModifiedBy>-</cp:lastModifiedBy>
  <dcterms:modified xsi:type="dcterms:W3CDTF">2003-04-18T11:49:51Z</dcterms:modified>
  <cp:revision>4</cp:revision>
  <dc:subject/>
  <dc:title>للإخوةِ السّلامُ والمحبَّةُ والإيمان مِنَ اللهِ الآبِ والربِ يسوعَ المسيحْ. فليَكُن إلهُ السّلامِ معكم أجمعين. آمين.</dc:title>
</cp:coreProperties>
</file>